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01A5-D705-446C-9F19-DC7401B4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6DFC0-B3D3-4CFD-B4AA-E6D1E9D2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B3885-DD23-4BF5-9982-5BB92991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72D9D-5ED5-4E61-8D79-C556050C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4399-387E-43F8-AE3A-450A5B0C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17F5-1EE2-42E6-AE31-FAC908DE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789D-3B75-4E3C-8CB8-5E0CFC3F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FA3B-5271-4C50-92F4-856598A0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2EE1-CD31-482B-92D4-F2E02BE0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DC34-0468-4E0D-B11D-C8947429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5942-EA37-40B1-B1B5-208CF13A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A1FBE-F835-4AC1-A6EA-C0DB8B49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FAC8-B1F6-44C5-98C4-12C18F66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3190-F453-4403-B308-A238FC67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ABA7-0023-4753-9EAB-96529D8E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F290-A5DF-4E89-A47A-19C7A830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8994-AF99-4327-BCEB-B3B4EF97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79869-F08B-4503-A7E8-180E0760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1FBB6-9A15-4B91-A6C1-088DCF45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8407D-A9D3-4793-978E-A2A19C3B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820DC-37A1-4970-9021-D8024BE3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A8734-746E-4E02-A8CA-8F09EDD7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9A52D-1024-4BA9-B3C2-5FFAF991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7C2F2-B529-4225-8B76-22FE7E96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dd6a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794A-E14C-4CC2-A324-185D6544D8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dd6a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AAEC-A16B-4B4F-ABD2-C0D3DE0915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donova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dd6a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238880" y="484020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J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April 27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perio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02800">
            <a:off x="469080" y="4495680"/>
            <a:ext cx="586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514"/>
                </a:solidFill>
                <a:uFillTx/>
                <a:latin typeface="Arial"/>
              </a:rPr>
              <a:t>Morbid Fantasy</a:t>
            </a: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 , May 7</a:t>
            </a:r>
            <a:r>
              <a:rPr b="0" lang="en-US" sz="1800" spc="-1" strike="noStrike" baseline="30000">
                <a:solidFill>
                  <a:srgbClr val="000514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freeplaymusic.com</a:t>
            </a:r>
            <a:r>
              <a:rPr b="0" lang="en-US" sz="18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33520" y="533520"/>
            <a:ext cx="746748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ISPOSABLE DIAP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dd6a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Marion"/>
          <p:cNvPicPr/>
          <p:nvPr/>
        </p:nvPicPr>
        <p:blipFill>
          <a:blip r:embed="rId1"/>
          <a:stretch/>
        </p:blipFill>
        <p:spPr>
          <a:xfrm>
            <a:off x="990720" y="457200"/>
            <a:ext cx="2925720" cy="4095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47920" y="5410080"/>
            <a:ext cx="6933960" cy="12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Kristen ITC"/>
              </a:rPr>
              <a:t>Lemelsons MIT Program, </a:t>
            </a:r>
            <a:r>
              <a:rPr b="0" lang="en-US" sz="1800" spc="-1" strike="noStrike" u="sng">
                <a:solidFill>
                  <a:srgbClr val="000514"/>
                </a:solidFill>
                <a:uFillTx/>
                <a:latin typeface="Kristen ITC"/>
              </a:rPr>
              <a:t>Marion Donovan</a:t>
            </a:r>
            <a:r>
              <a:rPr b="0" lang="en-US" sz="1800" spc="-1" strike="noStrike">
                <a:solidFill>
                  <a:srgbClr val="000514"/>
                </a:solidFill>
                <a:latin typeface="Kristen ITC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Kristen ITC"/>
              </a:rPr>
              <a:t>May 10, 2010, 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Kristen ITC"/>
                <a:hlinkClick r:id="rId2"/>
              </a:rPr>
              <a:t>http://web.mit.edu/invent/iow/donovan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Kristen IT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16765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Kristen ITC"/>
              </a:rPr>
              <a:t>This is Marion Donovan and She invented the Disposable Diap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dd6a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vention: Disposable Diaper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Marion was mocked because she helped revolutionize the infant care industry by making a prototype of the disposable diape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At first her diaper did not work because it leaked through right when you would change i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Marion then designed a waterproof diaper cover so the diaper wouldn’t leak anymore and it work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Soon after that, the diaper became an instant success in 1951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Donovan called her diaper the "Boater," because it helped babies "stay afloat."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She also invented a 30-garment compact hanger, a dish soap that drained the sink, and the “Zippity-Do” which was an elastic cord that was connected to the shoulder to the zipper on the back of the dres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Marion tried to make the disposable paper diaper but she designed a composition of sturdy, absorbent paper that did the job well don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Surprisingly, she did not have instant success with this ide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dd6a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ventor: Marion Donova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rion Donovan was born in Fort Wayne,  Indiana in 1917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Her mother died when she was seven, so Marion spent most of her free time in their factory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o then she went to Rosemont College in the suburbs of Philadelphia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rion took a job as an assistant Beauty editor at </a:t>
            </a:r>
            <a:r>
              <a:rPr b="0" i="1" lang="en-US" sz="2400" spc="-1" strike="noStrike">
                <a:solidFill>
                  <a:srgbClr val="000514"/>
                </a:solidFill>
                <a:latin typeface="Garamond"/>
              </a:rPr>
              <a:t>Vogue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514"/>
                </a:solidFill>
                <a:latin typeface="Garamond"/>
              </a:rPr>
              <a:t>Magazine</a:t>
            </a: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 in New Yo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he soon later married James Donovan, a leather importer, and started a famil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Marion and her new family moved to Westport, Connecticu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Garamond"/>
              </a:rPr>
              <a:t>Sadly in 2009 Marion Donovan passed away</a:t>
            </a:r>
            <a:r>
              <a:rPr b="0" lang="en-US" sz="2400" spc="-1" strike="noStrike">
                <a:solidFill>
                  <a:srgbClr val="ff0066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19:40Z</dcterms:created>
  <dc:creator>install</dc:creator>
  <dc:description/>
  <dc:language>en-US</dc:language>
  <cp:lastModifiedBy>install</cp:lastModifiedBy>
  <dcterms:modified xsi:type="dcterms:W3CDTF">2010-05-12T13:12:43Z</dcterms:modified>
  <cp:revision>10</cp:revision>
  <dc:subject/>
  <dc:title>Slide 1</dc:title>
</cp:coreProperties>
</file>